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2.xml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21.xml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ginalaus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0440" y="5493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endCxn id="101" idx="1"/>
          </p:cNvCxnSpPr>
          <p:nvPr/>
        </p:nvCxnSpPr>
        <p:spPr>
          <a:xfrm flipV="1">
            <a:off x="3313080" y="2729520"/>
            <a:ext cx="2699280" cy="135216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endCxn id="103" idx="1"/>
          </p:cNvCxnSpPr>
          <p:nvPr/>
        </p:nvCxnSpPr>
        <p:spPr>
          <a:xfrm flipV="1">
            <a:off x="3313080" y="4080600"/>
            <a:ext cx="2699280" cy="720"/>
          </a:xfrm>
          <a:prstGeom prst="bentConnector3">
            <a:avLst>
              <a:gd name="adj1" fmla="val 45618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äufigkeit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ssoziiert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ssoziiert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Läuf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5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0" name=""/>
          <p:cNvCxnSpPr>
            <a:stCxn id="157" idx="3"/>
            <a:endCxn id="16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7" idx="3"/>
            <a:endCxn id="16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prim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3"/>
            <a:endCxn id="16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2" idx="3"/>
            <a:endCxn id="17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6" name=""/>
          <p:cNvCxnSpPr>
            <a:stCxn id="172" idx="3"/>
            <a:endCxn id="17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2" idx="3"/>
            <a:endCxn id="17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0" name=""/>
          <p:cNvCxnSpPr>
            <a:stCxn id="172" idx="3"/>
            <a:endCxn id="17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8" name=""/>
          <p:cNvCxnSpPr>
            <a:endCxn id="18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3"/>
            <a:endCxn id="19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6" idx="3"/>
            <a:endCxn id="19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3"/>
            <a:endCxn id="20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5" name=""/>
          <p:cNvCxnSpPr>
            <a:stCxn id="202" idx="3"/>
            <a:endCxn id="20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3"/>
            <a:endCxn id="2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6" idx="3"/>
            <a:endCxn id="2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ques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0" idx="3"/>
            <a:endCxn id="2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oziiert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uf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000" y="54936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assoziiert mit Läuf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7" idx="3"/>
            <a:endCxn id="11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hysiologisch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päten Metöstr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hysiologisch im Proöstr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hysiologisch im Östr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5" idx="3"/>
            <a:endCxn id="2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3"/>
            <a:endCxn id="23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sekund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07360" y="549360"/>
            <a:ext cx="78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5" idx="3"/>
            <a:endCxn id="23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0" name=""/>
          <p:cNvCxnSpPr>
            <a:endCxn id="23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2" idx="3"/>
            <a:endCxn id="2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7" name=""/>
          <p:cNvCxnSpPr>
            <a:endCxn id="2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07360" y="54936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ngel an Gerinnungsfaktor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3"/>
            <a:endCxn id="2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1640" y="54936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r Hämostase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örung der sekundären Hämostase &gt; Mangel an Gerinnungsfaktor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9" idx="3"/>
            <a:endCxn id="2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3400" y="54936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nabhängig von Läufigkeit oder Trächtigkeit &gt; 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trakt stammend &gt; Blutung in den Harntrakt &gt; 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gangszell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blut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ginal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3400" y="549360"/>
            <a:ext cx="76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nabhängig von Läufigkeit oder Trächtigkeit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m Vaginal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1" idx="3"/>
            <a:endCxn id="27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ffene Pyometra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agin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ukomet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aginal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ticker-Sark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oziiert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31400" y="549360"/>
            <a:ext cx="461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ssoziiert mit 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5640" y="549360"/>
            <a:ext cx="62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ssoziiert mit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is sechs Wo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st partu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2680" y="549360"/>
            <a:ext cx="61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ssoziiert mit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taler To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burts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chgeburtsverhal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abhängi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ufigkeit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 dem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aginal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9" idx="3"/>
            <a:endCxn id="13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111320" y="54936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unabhängig von Läufigkeit oder 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6" idx="3"/>
            <a:endCxn id="13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1136520" y="549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3" idx="3"/>
            <a:endCxn id="1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136520" y="549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utung in den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3"/>
            <a:endCxn id="15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4" name=""/>
          <p:cNvCxnSpPr>
            <a:stCxn id="150" idx="3"/>
            <a:endCxn id="15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114200" y="549360"/>
            <a:ext cx="76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aginalausflus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unabhängig von Läufigkeit oder Trächt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lutung in den Harntrak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9:25:18Z</dcterms:modified>
  <cp:revision>328</cp:revision>
  <dc:subject/>
  <dc:title>Vorstellung einer Neuheit</dc:title>
</cp:coreProperties>
</file>